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BD1-C53C-4966-BF06-B696C699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95E-61C1-498A-B3B1-5E03BE6F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BB2E0B-C436-47D2-ABD7-62D416EF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997713-E245-448C-A00C-1AD3697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AC68D0-8D4D-47CD-8C81-3E7ECA4C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FF6CB1-CE8D-4D4D-BB34-2B481B7D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EC089F-7D6C-4B14-B499-AE9E261A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221DD8-5604-475D-89BC-EE7F72E9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4D689-07AC-4626-A6AC-0E267189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002B7C-BE16-4004-8766-F4031E31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16571D-B403-48A0-807F-C90ADBB2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48D-88CE-4F85-9CFD-2F31A34D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C9D-B1DA-4F41-AABE-FC3710BB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BFE3C-90F8-416C-88FE-1D7E996F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9071C-5975-4C33-A7FA-59939273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C96E7-4248-415D-B23C-90C42DDE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66507-014F-4DAB-A46F-66479673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11C77-A3C9-4D8E-A2F5-A211B891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63B74-E1CE-4D8B-B5F9-18D647F4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31CA1-79CD-4CAE-95F1-FC816DD4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9D93-AC77-49D8-8A70-57D52240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7EF1-F152-4082-BCF8-6494C94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630A5-E433-45F4-8582-A31A5B6D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192B2-BC1C-4638-B4C6-1D251F2F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EA56D-CED5-4718-8D8E-AA6CC4A6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4D502-37E0-4217-B7B0-3C10820A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E60A-04FD-4E39-93B5-D1773C5C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D887-DEAD-4263-9ECD-68B125B7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8421-F00E-4B2A-9B65-FDD38F8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57AA-D583-46AC-B656-D970B3DB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1579-BF71-480B-9D5D-FD529E2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12CF-33FC-4BC4-A7CC-E2AB5F2F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FCE76-8484-4DB1-A694-51BB3C26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7F46-3EB9-4312-A78D-A441E14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E7B16-039C-4308-AF0C-1FE66A6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CB086-9EB7-4CC1-9817-2EDA1C8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21545-B911-4B8F-8808-8E312501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B342-0178-4BD6-A7A1-BBB0E9CB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167A-75F1-41AA-A5D7-16941F03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A4DEB-7DBE-4CA6-8B0B-14772539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9618E-C2AF-4009-8319-32E0427B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868A6-72D9-4E99-B9A6-5955A2C9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808-3897-4101-9C92-594BC0C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1ED8E-DB58-44C9-B1AA-1DA2AC63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B5F65-07F7-4EB2-B70B-F77138F1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62091-2AE5-4EC6-9D6B-E68F7829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FB2EE-8614-4CA3-A5F9-5398A91C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DCE8AC-B2E3-4967-9A94-6CEC62D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B94058-D7AA-44B5-B341-BE703193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1C28F-8B7E-4557-80B8-5B45E131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AE19C-E817-41B0-8293-D0DEC947D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2148D-5729-4790-B5DB-19ED778E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737C3-AB13-4982-817F-47A96253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3E6-5432-4CA5-86F0-8142836C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8AB9D-818C-4066-9935-8D8D8F63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AB91B-D2BE-4FF1-B846-2ECF0348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41095-1C70-422F-8CF2-2F9AA066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40529-005D-488A-97B6-83A40721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3D625-4F42-4A32-A182-499676B5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C3010-5CC1-4A7F-9CB2-A5B3CD9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3B81-F167-413C-8007-3413A78F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C4491-2DAE-44B8-B7CB-A5CF43EA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511D-4E0A-4946-864A-06B0A8DE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E5D7F-B9ED-4417-9102-815490B8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085-5F9E-4F4E-8BDF-9CD83B41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0E391-8589-4C1E-9C58-ADB1BF3E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AF23B-CB92-4847-B9C6-670B199A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B367-C482-41CF-AFC8-82EC4CB2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2F0AB-B69E-41FA-AFBA-50BEC4D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BFA8C-6106-49B0-9995-9C0E824B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40EAB-9312-4970-813F-29B6F85B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91FD4-5BD8-42C6-9709-50BC3E43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0305-1C63-4865-90FC-AF03862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03B51-7931-43CA-8844-ED29C6C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BDB91-48AB-44DC-85BF-1D6D0F21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526-A2D6-431D-8F7D-8D178843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FDEDC-59BC-495B-AA05-D91E9BD9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93AAD-2A5B-43BC-B42A-DD568887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EAC6-1124-405D-86B8-2B88197D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56DCC-2D8C-4113-B13C-6D1EF63C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57722-219C-4545-ABBC-CF24D909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B08F-A880-4C59-BEE6-8C7B4D56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571CC-88E0-417A-9C77-B996E693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7DC94-5BEE-431A-8962-2F75CD57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25CD5-E64A-4F94-A604-032776BE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4823-E7FF-45CC-880E-64E38B18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3FC-F56A-4F25-B6E8-A57FBE2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85BDC-864F-4F91-8782-AE71C479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4C24F-CDCD-4984-8E3B-40DC0ED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85B51-A2F8-4A0E-985C-9B1CA220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2DC0-7184-4BE7-BC95-61CC85CD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04C2-9980-437A-9808-4FA46E38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7D9A0D-8620-492D-ABE9-C4890E58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7424E2-D840-4EC1-890C-AD5F7A79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11E4B6-7FE7-49AE-ADAB-69BE81D1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67282-416F-4EA3-82E9-93B32E7F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8D8FD3-72E7-4FDC-9B4F-09BF4CFF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8CE-AC73-40E3-8B64-CC5DEED3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B7227E-555D-475A-BEED-A5004CC7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EEB286-B445-4F78-BC57-8127D859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D7860F-DE97-438E-B030-09866380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2F5A4-55A9-4F78-9DA6-38BCD78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29A83-C934-4308-B1B4-66B28EFB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006602-4B39-42B4-95FD-3C90AA23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D034A4-B0EC-4C27-88FF-706AD489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A58241-DBD2-4FB0-A2AF-C67D32EB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9EAAF-C9BB-4F15-851C-856188E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D6802-8E85-4426-AE1D-022804D1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0C6-C558-4153-A971-9A070C87B9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CE44-74DD-458D-9EDA-D9EE7059526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F247-0A14-4CC1-9803-641A2EBFBCD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6619-80A4-458A-8A7C-17D0E57873D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9D93-9900-415B-B525-92BD5E1DEE9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35F-EEC1-4437-AEC3-B9C4C33BFC0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E26F-5172-469E-9428-BEA495DE393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F17-DABD-4096-BFC8-FEBF16F3251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1968-E9D9-493C-AF08-348E8D1263D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5828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am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at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ollu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ealth problem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ccident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626680" cy="210348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457200" y="1646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1:51:17Z</dcterms:created>
  <dc:creator>IT</dc:creator>
  <dc:description/>
  <dc:language>en-US</dc:language>
  <cp:lastModifiedBy>IT</cp:lastModifiedBy>
  <dcterms:modified xsi:type="dcterms:W3CDTF">2011-02-17T02:00:52Z</dcterms:modified>
  <cp:revision>1</cp:revision>
  <dc:subject/>
  <dc:title>Effects of Mixtures to Living Things and the Environment</dc:title>
</cp:coreProperties>
</file>